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FBCF9-13E5-4198-89BC-0F6787BA5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BEED0-EC1B-4E07-BC81-F306B3C1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12636-A887-4BAF-91E7-2C1E37396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F5733-2FE9-4503-BCA0-86CAA4C87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670C-5535-449D-B37B-31C3771B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56451-9689-42CD-8D97-531C719FE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7730-A70B-4775-AE0A-302951393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BC9C-8E93-460C-A6BC-620A0BFFB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C4D2-EEB1-484F-91B6-E0E1A732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B548-858C-4087-A35D-2F181823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444F-0BE7-43F6-849D-BB434C17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4044-E58B-405B-BA4F-8754AA298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847B-0916-4261-B07F-209E6137E6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81080" y="457200"/>
            <a:ext cx="5181840" cy="3516480"/>
          </a:xfrm>
          <a:prstGeom prst="rect">
            <a:avLst/>
          </a:prstGeom>
          <a:ln w="0">
            <a:noFill/>
          </a:ln>
        </p:spPr>
      </p:pic>
      <p:sp>
        <p:nvSpPr>
          <p:cNvPr id="42" name=""/>
          <p:cNvSpPr/>
          <p:nvPr/>
        </p:nvSpPr>
        <p:spPr>
          <a:xfrm>
            <a:off x="838080" y="441972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ory Paragraphs within the Persuasive Essay</a:t>
            </a:r>
            <a:endParaRPr b="0" lang="en-US" sz="2800" spc="-1" strike="noStrike">
              <a:solidFill>
                <a:srgbClr val="ffffff"/>
              </a:solidFill>
              <a:latin typeface="Arial"/>
            </a:endParaRPr>
          </a:p>
        </p:txBody>
      </p:sp>
      <p:sp>
        <p:nvSpPr>
          <p:cNvPr id="43" name=""/>
          <p:cNvSpPr/>
          <p:nvPr/>
        </p:nvSpPr>
        <p:spPr>
          <a:xfrm>
            <a:off x="1220760" y="4967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838080" y="1371600"/>
            <a:ext cx="739152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nk about the introduction to your persuasive essay.  How will you connect to your audience?  Try a couple of different things.  You can choose a fact or a quote or tell a stor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838080" y="1371600"/>
            <a:ext cx="739152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ll be coming around to confer with you about this and I will ask some of you to share at the end of the worksho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914400" y="1447920"/>
            <a:ext cx="754380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writers introduce a persuasive essay they state their opinion clearly.  This is sometimes called the author’s thesis statemen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1066680" y="1295280"/>
            <a:ext cx="68580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 at the following introduction.  What do you think the author’s opinion or thesis statement 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04920" y="380880"/>
            <a:ext cx="822960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n ancient Native American story says that in the old days all of the animals and people lived together in one family.  One day, First Maker decided that human beings and animals should live separately. She had all of the humans stand on one side of a field and all of the animals on the other side.  A big chasm began to form in the middle of the people and the animals.  The earth began to tear in two.  Suddenly all of the dogs leaped from the side where the animals were to the side where the humans were.  On that day dogs became connected to people in a special way.  This story illustrates my special feeling about dogs.  I think that they make the best pets of any animal because they are loyal, affectionate and protective.  In fact, a dog may treat you better than some people will.  You might say a dog can be a person’s best fri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04920" y="380880"/>
            <a:ext cx="822960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n ancient Native American story says that in the old days all of the animals and people lived together in one family.  One day, First Maker decided that human beings and animals should live separately. She had all of the humans stand on one side of a field and all of the animals on the other side.  A big chasm began to form in the middle of the people and the animals.  The earth began to tear in two.  Suddenly all of the dogs leaped from the side where the animals were to the side where the humans were.  On that day dogs became connected to people in a special way.  This story illustrates my special feeling about dogs.  </a:t>
            </a:r>
            <a:r>
              <a:rPr b="1" lang="en-US" sz="2400" spc="-1" strike="noStrike">
                <a:solidFill>
                  <a:srgbClr val="ff0000"/>
                </a:solidFill>
                <a:latin typeface="Optima"/>
              </a:rPr>
              <a:t>I think that they make the best pets of any animal because they are loyal, affectionate and protective.</a:t>
            </a:r>
            <a:r>
              <a:rPr b="0" lang="en-US" sz="2400" spc="-1" strike="noStrike">
                <a:solidFill>
                  <a:srgbClr val="ffffff"/>
                </a:solidFill>
                <a:latin typeface="Optima"/>
              </a:rPr>
              <a:t>  In fact, a dog may treat you better than some people will.  You might say a dog can be a person’s best fri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1066680" y="1295280"/>
            <a:ext cx="68580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 at the following introduction.  What do you think the author’s opinion or thesis statement 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609480" y="1143000"/>
            <a:ext cx="83059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mericans love sports.  Last year the NBA generated over 3 billion dollars and the NFL generated more than 5 billion dollars.  Basketball, football, baseball and NASCAR are the most popular sports in our country but my personal favorite is soccer.  I think soccer is the best sport for four reasons.  I prefer soccer because of its world-wide popularity, the cost of the equipment needed to play, the fact that people of all ages and abilities can play soccer and also because it is one of the healthiest sports to pl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609480" y="1143000"/>
            <a:ext cx="83059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mericans love sports.  Last year the NBA generated over 3 billion dollars and the NFL generated more than 5 billion dollars.  </a:t>
            </a:r>
            <a:r>
              <a:rPr b="1" lang="en-US" sz="2400" spc="-1" strike="noStrike">
                <a:solidFill>
                  <a:srgbClr val="ff0000"/>
                </a:solidFill>
                <a:latin typeface="Optima"/>
              </a:rPr>
              <a:t>Basketball, football, baseball and NASCAR are the most popular sports in our country but my personal favorite is soccer.</a:t>
            </a:r>
            <a:r>
              <a:rPr b="0" lang="en-US" sz="2400" spc="-1" strike="noStrike">
                <a:solidFill>
                  <a:srgbClr val="ffffff"/>
                </a:solidFill>
                <a:latin typeface="Optima"/>
              </a:rPr>
              <a:t>  I think soccer is the best sport for four reasons.  I prefer soccer because of its world-wide popularity, the cost of the equipment needed to play, the fact that people of all ages and abilities can play soccer and also because it is one of the healthiest sports to pl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1066680" y="304920"/>
            <a:ext cx="71629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you work on the introduction to your persuasive essay, make sure you have told your readers what your opinion or thesis statement i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914400" y="14479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writers want to convince their readers of an opinion or point of view they can write a persuasive ess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1066680" y="1295280"/>
            <a:ext cx="71629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l be coming around to talk with you about this and I will ask some of you to share at the end of the worksho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838080" y="762120"/>
            <a:ext cx="76964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writing a persuasive essay, writers often foreshadow or list the arguments that they will be us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838080" y="76212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ice if the author does this in the following introdu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04920" y="380880"/>
            <a:ext cx="822960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n ancient Native American story says that in the old days all of the animals and people lived together in one family.  One day, First Maker decided that human beings and animals should live separately. She had all of the humans stand on one side of a field and all of the animals on the other side.  A big chasm began to form in the middle of the people and the animals.  The earth began to tear in two.  Suddenly all of the dogs leaped from the side where the animals were to the side where the humans were.  On that day dogs became connected to people in a special way.  This story illustrates my special feeling about dogs.  I think that they make the best pets of any animal because they are loyal, affectionate and protective.  In fact, a dog may treat you better than some people will.  You might say a dog can be a person’s best fri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304920" y="380880"/>
            <a:ext cx="822960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n ancient Native American story says that in the old days all of the animals and people lived together in one family.  One day, First Maker decided that human beings and animals should live separately. She had all of the humans stand on one side of a field and all of the animals on the other side.  A big chasm began to form in the middle of the people and the animals.  The earth began to tear in two.  Suddenly all of the dogs leaped from the side where the animals were to the side where the humans were.  On that day dogs became connected to people in a special way.  This story illustrates my special feeling about dogs.  I think that they make the best pets of any animal </a:t>
            </a:r>
            <a:r>
              <a:rPr b="1" lang="en-US" sz="2400" spc="-1" strike="noStrike">
                <a:solidFill>
                  <a:srgbClr val="ff0000"/>
                </a:solidFill>
                <a:latin typeface="Optima"/>
              </a:rPr>
              <a:t>because they are loyal, affectionate and protective.</a:t>
            </a:r>
            <a:r>
              <a:rPr b="0" lang="en-US" sz="2400" spc="-1" strike="noStrike">
                <a:solidFill>
                  <a:srgbClr val="ffffff"/>
                </a:solidFill>
                <a:latin typeface="Optima"/>
              </a:rPr>
              <a:t>  In fact, a dog may treat you better than some people will.  You might say a dog can be a person’s best fri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609480" y="1143000"/>
            <a:ext cx="83059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mericans love sports.  Last year the NBA generated over 3 billion dollars and the NFL generated more than 5 billion dollars.  Basketball, football, baseball and NASCAR are the most popular sports in our country but my personal favorite is soccer.  I think soccer is the best sport for four reasons.  I prefer soccer because of its world-wide popularity, the cost of the equipment needed to play, the fact that people of all ages and abilities can play soccer and also because it is one of the healthiest sports to pl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609480" y="1143000"/>
            <a:ext cx="83059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mericans love sports.  Last year the NBA generated over 3 billion dollars and the NFL generated more than 5 billion dollars.  Basketball, football, baseball and NASCAR are the most popular sports in our country but my personal favorite is soccer.  I think soccer is the best sport for </a:t>
            </a:r>
            <a:r>
              <a:rPr b="1" lang="en-US" sz="2400" spc="-1" strike="noStrike">
                <a:solidFill>
                  <a:srgbClr val="ff0000"/>
                </a:solidFill>
                <a:latin typeface="Optima"/>
              </a:rPr>
              <a:t>four reasons.  I prefer soccer because of its world-wide popularity, the cost of the equipment needed to play, the fact that people of all ages and abilities can play soccer and also because it is one of the healthiest sports to pl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990720" y="114300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you continue working on your introduction, make sure that you are listing or foreshadowing the arguments that you will make in the body of your ess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990720" y="1143000"/>
            <a:ext cx="708660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l be coming around to talk with you about this and I will ask some of you to share at the end of the workshop.</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057400" y="380880"/>
            <a:ext cx="5181480" cy="3516480"/>
          </a:xfrm>
          <a:prstGeom prst="rect">
            <a:avLst/>
          </a:prstGeom>
          <a:ln w="0">
            <a:noFill/>
          </a:ln>
        </p:spPr>
      </p:pic>
      <p:sp>
        <p:nvSpPr>
          <p:cNvPr id="72" name=""/>
          <p:cNvSpPr/>
          <p:nvPr/>
        </p:nvSpPr>
        <p:spPr>
          <a:xfrm>
            <a:off x="838080" y="4419720"/>
            <a:ext cx="731520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 Arbor Public Schools</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of Curriculum and Instruc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a:t>
            </a:r>
            <a:endParaRPr b="0" lang="en-US" sz="2400" spc="-1" strike="noStrike">
              <a:solidFill>
                <a:srgbClr val="ffffff"/>
              </a:solidFill>
              <a:latin typeface="Arial"/>
            </a:endParaRPr>
          </a:p>
        </p:txBody>
      </p:sp>
      <p:sp>
        <p:nvSpPr>
          <p:cNvPr id="73" name=""/>
          <p:cNvSpPr/>
          <p:nvPr/>
        </p:nvSpPr>
        <p:spPr>
          <a:xfrm>
            <a:off x="1220760" y="4967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914400" y="1447920"/>
            <a:ext cx="75438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writers introduce a persuasive essay they try to connect with their audience by telling a story, giving an example or citing a convincing fac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914400" y="1447920"/>
            <a:ext cx="75438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cuss this introduction.  How is the author trying to connect with the audience?</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04920" y="380880"/>
            <a:ext cx="822960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n ancient Native American story says that in the old days all of the animals and people lived together in one family.  One day, First Maker decided that human beings and animals should live separately. She had all of the humans stand on one side of a field and all of the animals on the other side.  A big chasm began to form in the middle of the people and the animals.  The earth began to tear in two.  Suddenly all of the dogs leaped from the side where the animals were to the side where the humans were.  On that day dogs became connected to people in a special way.  This story illustrates my special feeling about dogs.  I think that they make the best pets of any animal because they are loyal, affectionate and protective.  In fact, a dog may treat you better than some people will.  You might say a dog can be a person’s best fri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304920" y="380880"/>
            <a:ext cx="822960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Optima"/>
              </a:rPr>
              <a:t>An ancient Native American story says that in the old days all of the animals and people lived together in one family.  One day, First Maker decided that human beings and animals should live separately. She had all of the humans stand on one side of a field and all of the animals on the other side.  A big chasm began to form in the middle of the people and the animals.  The earth began to tear in two.  Suddenly all of the dogs leaped from the side where the animals were to the side where the humans were.  On that day dogs became connected to people in a special way.</a:t>
            </a:r>
            <a:r>
              <a:rPr b="0" lang="en-US" sz="2400" spc="-1" strike="noStrike">
                <a:solidFill>
                  <a:srgbClr val="ffffff"/>
                </a:solidFill>
                <a:latin typeface="Optima"/>
              </a:rPr>
              <a:t>  This story illustrates my special feeling about dogs.  I think that they make the best pets of any animal because they are loyal, affectionate and protective.  In fact, a dog may treat you better than some people will.  You might say a dog can be a person’s best fri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914400" y="1447920"/>
            <a:ext cx="75438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cuss this introduction.  How is the author trying to connect with the audience?</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609480" y="1143000"/>
            <a:ext cx="83059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Americans love sports.  Last year the NBA generated over 3 billion dollars and the NFL generated more than 5 billion dollars.  Basketball, football, baseball and NASCAR are the most popular sports in our country but my personal favorite is soccer.  I think soccer is the best sport for four reasons.  I prefer soccer because of its world-wide popularity, the cost of the equipment needed to play, the fact that people of all ages and abilities can play soccer and also because it is one of the healthiest sports to pl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609480" y="1143000"/>
            <a:ext cx="83059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Optima"/>
              </a:rPr>
              <a:t>Americans love sports.  Last year the NBA generated over 3 billion dollars and the NFL generated more than 5 billion dollars.</a:t>
            </a:r>
            <a:r>
              <a:rPr b="0" lang="en-US" sz="2400" spc="-1" strike="noStrike">
                <a:solidFill>
                  <a:srgbClr val="ffffff"/>
                </a:solidFill>
                <a:latin typeface="Optima"/>
              </a:rPr>
              <a:t>  Basketball, football, baseball and NASCAR are the most popular sports in our country but my personal favorite is soccer.  I think soccer is the best sport for four reasons.  I prefer soccer because of its world-wide popularity, the cost of the equipment needed to play, the fact that people of all ages and abilities can play soccer and also because it is one of the healthiest sports to pl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20:01:19Z</dcterms:created>
  <dc:creator>AAPS</dc:creator>
  <dc:description/>
  <dc:language>en-US</dc:language>
  <cp:lastModifiedBy>AAPS</cp:lastModifiedBy>
  <cp:lastPrinted>2007-11-30T20:34:14Z</cp:lastPrinted>
  <dcterms:modified xsi:type="dcterms:W3CDTF">2007-12-06T19:38:15Z</dcterms:modified>
  <cp:revision>19</cp:revision>
  <dc:subject/>
  <dc:title>PowerPoint Presentation</dc:title>
</cp:coreProperties>
</file>